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78212-70F7-4E81-B335-66A71A30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EC332-B0F3-4312-9F72-A1FFEBE4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53DF3-29B3-46B5-81BC-A5D62863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CCDF8-0A9F-4CC3-BF29-DECD3ADE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947E-8D7F-4417-A882-A735E4E6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B121-6596-4EA0-AFE2-8A2A2AC0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3B43-C20F-42A4-AFC7-8FBDAD37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D023-AEDF-4FA3-A098-2DD882C5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B62E-4A06-4673-9FD9-5EB9A716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DBDB-1E40-4CB2-AAF5-46A7D555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2488-5F60-4882-B7BB-DAE967F6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F41A4-92F7-46FF-BB0D-8C1FFD33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5CD6-4CD1-48CB-A566-0615A64A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0AC9-9040-4CE8-853B-B8B624E2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5677-6C44-4F8C-8236-0557EF4C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6D74-4D80-4934-B1E6-6CAFDBAE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6728-25C8-4243-95CB-5372731F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FC750-D5AC-4877-A023-1DD2C6C9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2C922-7460-4048-9CF3-B9EC2AD4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C0580-2FB4-4BE1-8A6C-1527248A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83387-46A7-4142-AD91-6AD6585F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ADB88-47F0-40FD-A326-8AC23312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40E40-61E4-402E-B8CA-0B6CB9EA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2643-9AC4-4F39-BDB5-E53CD595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4183-2FE9-49F8-BEA2-FEAE5D9EA3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1738-09DC-4C08-A95C-5F8FB2D2AF8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9192-699E-46E2-AC1B-B9F67C8CED7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125A-64B5-49B9-A464-A44CC890AD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vanban.chinhphu.vn/portal/page/portal/chinhphu/hethongvanban?class_id=1&amp;_page=1&amp;mode=detail&amp;document_id=166075" TargetMode="External"/><Relationship Id="rId2" Type="http://schemas.openxmlformats.org/officeDocument/2006/relationships/hyperlink" Target="http://vanban.chinhphu.vn/portal/page/portal/chinhphu/hethongvanban?class_id=1&amp;_page=1&amp;mode=detail&amp;document_id=166075" TargetMode="External"/><Relationship Id="rId3" Type="http://schemas.openxmlformats.org/officeDocument/2006/relationships/hyperlink" Target="http://vanban.chinhphu.vn/portal/page/portal/chinhphu/hethongvanban?class_id=1&amp;_page=1&amp;mode=detail&amp;document_id=165442" TargetMode="External"/><Relationship Id="rId4" Type="http://schemas.openxmlformats.org/officeDocument/2006/relationships/hyperlink" Target="http://vanban.chinhphu.vn/portal/page/portal/chinhphu/hethongvanban?class_id=1&amp;_page=1&amp;mode=detail&amp;document_id=165872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57FD-3B89-4897-99D6-827C2883FE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977F-A65F-4A1E-A719-1D747A5CAA8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0"/>
            <a:ext cx="9067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ƯƠNG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OẠN THẢO &amp; TRÌNH BÀ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ĂN BẢN HÀNH CHÍN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ame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0" name="Minus 6"/>
          <p:cNvSpPr/>
          <p:nvPr/>
        </p:nvSpPr>
        <p:spPr>
          <a:xfrm>
            <a:off x="2666880" y="1676520"/>
            <a:ext cx="3886200" cy="2286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D608-210A-43B4-854F-9AD5576DBE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4B42-52D7-4390-970A-7DA8E2322A1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57200" y="838080"/>
            <a:ext cx="4114800" cy="5562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chế độ, chính sách trong nội bộ tổ chứ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 công tác nhân sự, lao động tiền lương, sản xuất kinh doanh ..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6" name="Horizontal Scroll 5"/>
          <p:cNvSpPr/>
          <p:nvPr/>
        </p:nvSpPr>
        <p:spPr>
          <a:xfrm>
            <a:off x="304920" y="76320"/>
            <a:ext cx="853416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. QUYẾT ĐỊNH HÀNH CHÍ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87" name="Picture 2" descr="http://ud.udn.vn/Vanban%5CQD_DHDN%5C2010%5C5342-QD-BGDDT.jpg"/>
          <p:cNvPicPr/>
          <p:nvPr/>
        </p:nvPicPr>
        <p:blipFill>
          <a:blip r:embed="rId1"/>
          <a:stretch/>
        </p:blipFill>
        <p:spPr>
          <a:xfrm>
            <a:off x="4572000" y="838080"/>
            <a:ext cx="4191120" cy="556272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0A79-2E1A-49F3-A64E-453EC709DB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E80E-A2A2-43D0-9FFE-51F6DC09A9A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457200" y="762120"/>
            <a:ext cx="4114800" cy="5638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iến hành các thủ tục điều tra, truy tố, xét xử các vụ án hình sự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Giải quyết các vụ án dân sự, thương mại, hành chính, lao động tại Tòa á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i hành á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2" name="Horizontal Scroll 7"/>
          <p:cNvSpPr/>
          <p:nvPr/>
        </p:nvSpPr>
        <p:spPr>
          <a:xfrm>
            <a:off x="304920" y="0"/>
            <a:ext cx="853416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3. QUYẾT ĐỊNH TƯ PHÁP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3" name="Picture 4" descr="http://dantrivn.files.wordpress.com/2012/05/1-quyet-dinh-khoi-to-vu-an.jpg"/>
          <p:cNvPicPr/>
          <p:nvPr/>
        </p:nvPicPr>
        <p:blipFill>
          <a:blip r:embed="rId1"/>
          <a:stretch/>
        </p:blipFill>
        <p:spPr>
          <a:xfrm>
            <a:off x="4686480" y="762120"/>
            <a:ext cx="4076640" cy="56386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9907-6F8C-40D8-9D4A-FD15D5811D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5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512B-ACBD-443F-BE23-8D5E64E810D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6" name="Picture 2" descr="http://3.bp.blogspot.com/_pzFtZGcCch4/TOW7KhiJSBI/AAAAAAAACas/nw_6MZi72Ss/s1600/untitled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http://2.bp.blogspot.com/_pzFtZGcCch4/TOW8iwKXwBI/AAAAAAAACa8/N2JwBXQxwxg/s1600/untitled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9A73-4320-48E2-A852-E735C76694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B42F-AB85-4903-B23B-86031368208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814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ủ tịch nước, Thủ tướng Chính phủ, Tổng Kiểm toán Nhà nước, Ủy ban nhân dân các cấ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Horizontal Scroll 6"/>
          <p:cNvSpPr/>
          <p:nvPr/>
        </p:nvSpPr>
        <p:spPr>
          <a:xfrm>
            <a:off x="304920" y="7632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THẨM QUYỀN BAN HÀ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3" name="Horizontal Scroll 7"/>
          <p:cNvSpPr/>
          <p:nvPr/>
        </p:nvSpPr>
        <p:spPr>
          <a:xfrm>
            <a:off x="380880" y="9907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. QUYẾT ĐỊNH QPP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457200" y="4648320"/>
            <a:ext cx="8229600" cy="16761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gười đứng đầu cơ quan, tổ chức, đơn vị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5" name="Horizontal Scroll 9"/>
          <p:cNvSpPr/>
          <p:nvPr/>
        </p:nvSpPr>
        <p:spPr>
          <a:xfrm>
            <a:off x="380880" y="388620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. QUYẾT ĐỊNH HÀNH CHÍ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612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1529-34B0-46E8-B841-6D815F9042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8E31-F5F5-4F65-B4A7-61F4C381E3B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rưởng các cơ quan tư pháp: Cơ quan điều tra, Viện kiểm sát, Tòa án, Thi hành á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ác chức danh tư pháp: Điều tra viên, Kiểm sát viên, Thẩm phán, Chấp hành viê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0" name="Horizontal Scroll 5"/>
          <p:cNvSpPr/>
          <p:nvPr/>
        </p:nvSpPr>
        <p:spPr>
          <a:xfrm>
            <a:off x="380880" y="763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3. QUYẾT ĐỊNH TƯ PHÁP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E474-E319-43AC-9D4D-5EA8159CFF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EA8A-8A42-4B80-98C4-58AB7BAC0AE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560" y="1447920"/>
            <a:ext cx="1447560" cy="41148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Horizontal Scroll 6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CẤU TRÚC CỦA QUYẾT ĐỊ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6" name="Right Arrow 10"/>
          <p:cNvSpPr/>
          <p:nvPr/>
        </p:nvSpPr>
        <p:spPr>
          <a:xfrm>
            <a:off x="1841400" y="1447920"/>
            <a:ext cx="825480" cy="1676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7" name="Right Arrow 11"/>
          <p:cNvSpPr/>
          <p:nvPr/>
        </p:nvSpPr>
        <p:spPr>
          <a:xfrm>
            <a:off x="1841400" y="3886200"/>
            <a:ext cx="825480" cy="1676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8" name="Rounded Rectangle 12"/>
          <p:cNvSpPr/>
          <p:nvPr/>
        </p:nvSpPr>
        <p:spPr>
          <a:xfrm>
            <a:off x="2743200" y="1447920"/>
            <a:ext cx="5867280" cy="1676160"/>
          </a:xfrm>
          <a:prstGeom prst="roundRect">
            <a:avLst>
              <a:gd name="adj" fmla="val 30458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ĂN CỨ BAN HÀ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9" name="Rounded Rectangle 13"/>
          <p:cNvSpPr/>
          <p:nvPr/>
        </p:nvSpPr>
        <p:spPr>
          <a:xfrm>
            <a:off x="2743200" y="3886200"/>
            <a:ext cx="5867280" cy="1676520"/>
          </a:xfrm>
          <a:prstGeom prst="roundRect">
            <a:avLst>
              <a:gd name="adj" fmla="val 30458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ĐIỀU CHỈ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14A6-D7D5-4FE7-B390-F5393CF5E5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AFE5-7CB3-42EF-AD68-85F8E1A707D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22" name="Group 14"/>
          <p:cNvGrpSpPr/>
          <p:nvPr/>
        </p:nvGrpSpPr>
        <p:grpSpPr>
          <a:xfrm>
            <a:off x="304920" y="1219320"/>
            <a:ext cx="8458200" cy="4952880"/>
            <a:chOff x="304920" y="1219320"/>
            <a:chExt cx="8458200" cy="4952880"/>
          </a:xfrm>
        </p:grpSpPr>
        <p:sp>
          <p:nvSpPr>
            <p:cNvPr id="223" name="Rectangle 4"/>
            <p:cNvSpPr/>
            <p:nvPr/>
          </p:nvSpPr>
          <p:spPr>
            <a:xfrm>
              <a:off x="304920" y="3352680"/>
              <a:ext cx="2666880" cy="175248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N HÀNH</a:t>
              </a: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4" name="Rectangle 5"/>
            <p:cNvSpPr/>
            <p:nvPr/>
          </p:nvSpPr>
          <p:spPr>
            <a:xfrm>
              <a:off x="3581640" y="2362320"/>
              <a:ext cx="2361960" cy="167616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ÁP LÝ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3581640" y="4419720"/>
              <a:ext cx="2361960" cy="175248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ỰC TẾ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6" name="Rectangle 8"/>
            <p:cNvSpPr/>
            <p:nvPr/>
          </p:nvSpPr>
          <p:spPr>
            <a:xfrm>
              <a:off x="6477120" y="1219320"/>
              <a:ext cx="2286000" cy="175248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ẨM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UYỀN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7" name="Rectangle 9"/>
            <p:cNvSpPr/>
            <p:nvPr/>
          </p:nvSpPr>
          <p:spPr>
            <a:xfrm>
              <a:off x="6477120" y="3276720"/>
              <a:ext cx="2286000" cy="175248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ÁP DỤNG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8" name="AutoShape 14"/>
            <p:cNvSpPr/>
            <p:nvPr/>
          </p:nvSpPr>
          <p:spPr>
            <a:xfrm>
              <a:off x="3048120" y="2362320"/>
              <a:ext cx="457200" cy="38098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20600 h 3809880"/>
                <a:gd name="textAreaBottom" fmla="*/ 3689280 h 380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93"/>
                    <a:pt x="10800" y="2186"/>
                  </a:cubicBezTo>
                  <a:lnTo>
                    <a:pt x="10800" y="8614"/>
                  </a:lnTo>
                  <a:cubicBezTo>
                    <a:pt x="10800" y="9707"/>
                    <a:pt x="5400" y="10800"/>
                    <a:pt x="0" y="10800"/>
                  </a:cubicBezTo>
                  <a:cubicBezTo>
                    <a:pt x="5400" y="10800"/>
                    <a:pt x="10800" y="11893"/>
                    <a:pt x="10800" y="12986"/>
                  </a:cubicBezTo>
                  <a:lnTo>
                    <a:pt x="10800" y="19414"/>
                  </a:lnTo>
                  <a:cubicBezTo>
                    <a:pt x="10800" y="20507"/>
                    <a:pt x="16200" y="21600"/>
                    <a:pt x="21600" y="21600"/>
                  </a:cubicBezTo>
                </a:path>
              </a:pathLst>
            </a:cu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9" name="AutoShape 15"/>
            <p:cNvSpPr/>
            <p:nvPr/>
          </p:nvSpPr>
          <p:spPr>
            <a:xfrm>
              <a:off x="5943600" y="1219320"/>
              <a:ext cx="457200" cy="38098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06920 h 3809880"/>
                <a:gd name="textAreaBottom" fmla="*/ 3702960 h 380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69"/>
                    <a:pt x="10800" y="1937"/>
                  </a:cubicBezTo>
                  <a:lnTo>
                    <a:pt x="10800" y="8863"/>
                  </a:lnTo>
                  <a:cubicBezTo>
                    <a:pt x="10800" y="9832"/>
                    <a:pt x="5400" y="10800"/>
                    <a:pt x="0" y="10800"/>
                  </a:cubicBezTo>
                  <a:cubicBezTo>
                    <a:pt x="5400" y="10800"/>
                    <a:pt x="10800" y="11769"/>
                    <a:pt x="10800" y="12737"/>
                  </a:cubicBezTo>
                  <a:lnTo>
                    <a:pt x="10800" y="19663"/>
                  </a:lnTo>
                  <a:cubicBezTo>
                    <a:pt x="10800" y="20632"/>
                    <a:pt x="16200" y="21600"/>
                    <a:pt x="21600" y="21600"/>
                  </a:cubicBezTo>
                </a:path>
              </a:pathLst>
            </a:cu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Horizontal Scroll 13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. CĂN CỨ BAN HÀNH (1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9815-92BA-4F79-B64E-D1113DB3E5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3A6A-8B68-47E7-B5A7-A2154A53CC4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2189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ứng minh quyền hạn của chủ thể ban hành Q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Horizontal Scroll 6"/>
          <p:cNvSpPr/>
          <p:nvPr/>
        </p:nvSpPr>
        <p:spPr>
          <a:xfrm>
            <a:off x="304920" y="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. CĂN CỨ BAN HÀNH (2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7" name="Horizontal Scroll 7"/>
          <p:cNvSpPr/>
          <p:nvPr/>
        </p:nvSpPr>
        <p:spPr>
          <a:xfrm>
            <a:off x="380880" y="762120"/>
            <a:ext cx="5105520" cy="7617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ĂN CỨ THẨM QUYỀ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457200" y="3352680"/>
            <a:ext cx="8229600" cy="1219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sở pháp lý sử dụng trong nội dung điều chỉnh của QĐ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9" name="Horizontal Scroll 9"/>
          <p:cNvSpPr/>
          <p:nvPr/>
        </p:nvSpPr>
        <p:spPr>
          <a:xfrm>
            <a:off x="380880" y="2666880"/>
            <a:ext cx="41911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ĂN CỨ ÁP DỤ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457200" y="5181480"/>
            <a:ext cx="8229600" cy="1219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kiện hoặc cơ sở thực tiễn để ban hành QĐ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1" name="Horizontal Scroll 11"/>
          <p:cNvSpPr/>
          <p:nvPr/>
        </p:nvSpPr>
        <p:spPr>
          <a:xfrm>
            <a:off x="380880" y="4495680"/>
            <a:ext cx="41911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ĂN CỨ THỰC TẾ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EFFB-A15E-48B9-90FE-FECCB56F9F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BE3E-2381-4422-93EC-0454B8DDAA6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505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hành vi, đối tượng, mức độ và thời gian điều chỉ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(ngày có hiệu lực của Quyết định; người có trách nhiệm thi hành Quyết địn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Horizontal Scroll 6"/>
          <p:cNvSpPr/>
          <p:nvPr/>
        </p:nvSpPr>
        <p:spPr>
          <a:xfrm>
            <a:off x="380880" y="76320"/>
            <a:ext cx="830592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. NỘI DUNG ĐIỀU CHỈNH (1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457200" y="1066680"/>
            <a:ext cx="8229600" cy="17528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YẾT ĐỊ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/v nâng lương, khen thưở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 Điều) *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3586-0161-4BAD-96B1-2D6AB88B68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6058-CA9E-4EEE-9C21-13EEBD33E15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505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hành vi, đối tượng, mức độ và thời gian điều chỉ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lương, phụ cấp, trợ cấ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3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Horizontal Scroll 6"/>
          <p:cNvSpPr/>
          <p:nvPr/>
        </p:nvSpPr>
        <p:spPr>
          <a:xfrm>
            <a:off x="380880" y="76320"/>
            <a:ext cx="830592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. NỘI DUNG ĐIỀU CHỈNH (2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457200" y="1066680"/>
            <a:ext cx="8229600" cy="17528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YẾT ĐỊ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/v bổ nhiệm, điều động,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 thôi việc (3 điều):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APTER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ECHNICAL DRAFTING &amp; PRESENTING OFFICIAL DOCUMENT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29B4-7A1D-4DD4-ADAC-1E35DB66FB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3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38C2-6F5B-4EB1-A81C-1A425841F86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Frame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5" name="Minus 6"/>
          <p:cNvSpPr/>
          <p:nvPr/>
        </p:nvSpPr>
        <p:spPr>
          <a:xfrm>
            <a:off x="2590920" y="1676520"/>
            <a:ext cx="3886200" cy="2286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BF16-E10B-45F3-B2F5-7FA5C5DEBC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7CCC-3794-4584-82B3-13FEFB21C91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hành vi, đối tượng, mức độ và thời gian điều chỉ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chức năng, nhiệm vụ, quyền hạn của tổ chứ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3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cơ cấu tổ chức, nhân sự của tổ chứ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4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Horizontal Scroll 6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. NỘI DUNG ĐIỀU CHỈNH (3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457200" y="914400"/>
            <a:ext cx="82296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YẾT ĐỊ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/v thành lập tổ chức, đơn vị (4 điều) *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791B-7488-4B6E-BE06-77C8DC9663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E3A8-1B24-44FF-B335-F23C7618356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nâng lương, khen thưở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GIÁM ĐỐC CÔNG 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ẩm quyền;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áp dụng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ực tế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 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hành vi, đối tượng, mức độ, thời gian điều chỉn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3657600" y="2438280"/>
            <a:ext cx="18288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0" y="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ÔNG TY TNHH HÒA BÌ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QĐ-GĐ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3657600" y="0"/>
            <a:ext cx="54864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6" name="Line 4"/>
          <p:cNvSpPr/>
          <p:nvPr/>
        </p:nvSpPr>
        <p:spPr>
          <a:xfrm>
            <a:off x="914400" y="609480"/>
            <a:ext cx="175248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457200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ÁM ĐỐ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………………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. 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3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9" name="Line 7"/>
          <p:cNvSpPr/>
          <p:nvPr/>
        </p:nvSpPr>
        <p:spPr>
          <a:xfrm>
            <a:off x="4800600" y="914400"/>
            <a:ext cx="32004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896D-313F-416E-8C81-0BC634CB27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B645-7380-4C32-B6CD-0C252300F0F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5FD4-2ED0-4484-8066-5F9DE0152D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676C-88BE-47A5-839A-5F58936361E5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0" y="1676520"/>
            <a:ext cx="914400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ổ nhiệm, điều động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GIÁM ĐỐC CÔNG TY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ẩm quyền;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áp dụng;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ực tế,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hành vi, đối tượng, mức độ, thời gian điều chỉnh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lương và phụ cấp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3: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5" name="Line 6"/>
          <p:cNvSpPr/>
          <p:nvPr/>
        </p:nvSpPr>
        <p:spPr>
          <a:xfrm>
            <a:off x="3657600" y="2438280"/>
            <a:ext cx="18288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0" y="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ÔNG TY TNHH HÒA BÌ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QĐ-GĐ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3657600" y="0"/>
            <a:ext cx="54864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8" name="Line 4"/>
          <p:cNvSpPr/>
          <p:nvPr/>
        </p:nvSpPr>
        <p:spPr>
          <a:xfrm>
            <a:off x="914400" y="609480"/>
            <a:ext cx="175248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457200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ÁM ĐỐ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………………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. 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3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4800600" y="914400"/>
            <a:ext cx="32004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BF86-D01C-4B2C-8AA5-D70C8346AA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6259-4821-4FE1-A311-FB6E4FD8B2F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5612-59AD-4DD0-A1C3-4FDE06FF5C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5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DB0D-383B-47B6-AE4F-68D0412E33BA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D4CF-FD36-4FBF-ADF3-CDFE8C5358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5C87-14DA-488F-A73E-A74311B496E6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0" y="1676520"/>
            <a:ext cx="914400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thành lập tổ chức, đơn vị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ẨM QUYỀN BAN HÀNH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ẩm quyền;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áp dụng;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ực tế,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hành vi, đối tượng, mức độ, thời gian điều chỉnh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chức năng, nhiệm vụ của tổ chức được thành lập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3: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cơ cấu tổ chức, nhân sự của tổ chức được thành lập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4: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3657600" y="2438280"/>
            <a:ext cx="18288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0" y="0"/>
            <a:ext cx="3657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ÊN TỔ CHỨC BAN HÀ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QĐ-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3657600" y="0"/>
            <a:ext cx="5486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2" name="Line 4"/>
          <p:cNvSpPr/>
          <p:nvPr/>
        </p:nvSpPr>
        <p:spPr>
          <a:xfrm>
            <a:off x="914400" y="609480"/>
            <a:ext cx="175248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4572000" y="5791320"/>
            <a:ext cx="4572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ỨC VỤ NGƯỜI KÝ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4" name="Rectangle 13"/>
          <p:cNvSpPr/>
          <p:nvPr/>
        </p:nvSpPr>
        <p:spPr>
          <a:xfrm>
            <a:off x="0" y="5791320"/>
            <a:ext cx="4572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………………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. 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3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4800600" y="914400"/>
            <a:ext cx="32004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34F3-7887-46CE-95ED-68EAE14D04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92DC-F975-4953-8B29-C501AA2944B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98" name="Picture 2" descr="http://dolisa.org/hr/store/1900-2010-qd-ubnd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http://cement-t.com.vn/file_download/di328-20100323.jpg"/>
          <p:cNvPicPr/>
          <p:nvPr/>
        </p:nvPicPr>
        <p:blipFill>
          <a:blip r:embed="rId2"/>
          <a:stretch/>
        </p:blipFill>
        <p:spPr>
          <a:xfrm>
            <a:off x="4610160" y="0"/>
            <a:ext cx="453384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D6E9-7CAA-4718-8BE0-14699C8D9F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68BF-5340-4C98-904D-CC9C180734B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02" name="Picture 2" descr="http://www.phuhunggia.com/sites/default/files/image/BoNhiemTGD/Quy%E1%BA%BFt%20%C4%91%E1%BB%8Bnh%20b%E1%BB%95%20nhi%E1%BB%87m%20T%E1%BB%95ng%20Gi%C3%A1m%20%C4%91%E1%BB%91c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http://www.motilenct.com.vn/newpage/vi/All_Pic/QDinh_BoNhiem_TGD_2012.jpg"/>
          <p:cNvPicPr/>
          <p:nvPr/>
        </p:nvPicPr>
        <p:blipFill>
          <a:blip r:embed="rId2"/>
          <a:stretch/>
        </p:blipFill>
        <p:spPr>
          <a:xfrm>
            <a:off x="459108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Multiply 5"/>
          <p:cNvSpPr/>
          <p:nvPr/>
        </p:nvSpPr>
        <p:spPr>
          <a:xfrm>
            <a:off x="7543800" y="228600"/>
            <a:ext cx="12952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F276-E68F-4DA3-BEE8-A1E1AE8711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D8E9-FE7B-417A-AC91-47907EC55EC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oạn Quyết định bổ nhiệm Trưởng Phòng Kinh doanh của Giám đốc Công ty TNHH Hòa B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Horizontal Scroll 6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ÀI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0" name="Oval 7"/>
          <p:cNvSpPr/>
          <p:nvPr/>
        </p:nvSpPr>
        <p:spPr>
          <a:xfrm>
            <a:off x="7772400" y="54100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612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ED37-C0A4-42E2-AED6-5B7962EA73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49EB-16D0-42C0-838D-6ED9BFFB233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9" name="Horizontal Scroll 5"/>
          <p:cNvSpPr/>
          <p:nvPr/>
        </p:nvSpPr>
        <p:spPr>
          <a:xfrm>
            <a:off x="304920" y="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 OF CHAPTER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438280" y="9907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Decis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438280" y="16765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Notifica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438280" y="23623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Repor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438280" y="30481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</a:t>
            </a:r>
            <a:r>
              <a:rPr b="0" lang="en-US" sz="4000" spc="-1" strike="noStrike">
                <a:solidFill>
                  <a:srgbClr val="000000"/>
                </a:solidFill>
                <a:latin typeface="VNI-Times"/>
              </a:rPr>
              <a:t>Proposal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438280" y="37339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NI-Times"/>
              </a:rPr>
              <a:t>Technical recording the Minutes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438280" y="44197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Contrac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438280" y="51055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Dispatche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438280" y="57913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Letters Personally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8" name="Rounded Rectangle 14"/>
          <p:cNvSpPr/>
          <p:nvPr/>
        </p:nvSpPr>
        <p:spPr>
          <a:xfrm>
            <a:off x="457200" y="9907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Rounded Rectangle 15"/>
          <p:cNvSpPr/>
          <p:nvPr/>
        </p:nvSpPr>
        <p:spPr>
          <a:xfrm>
            <a:off x="457200" y="16765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Rounded Rectangle 22"/>
          <p:cNvSpPr/>
          <p:nvPr/>
        </p:nvSpPr>
        <p:spPr>
          <a:xfrm>
            <a:off x="457200" y="23623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Rounded Rectangle 23"/>
          <p:cNvSpPr/>
          <p:nvPr/>
        </p:nvSpPr>
        <p:spPr>
          <a:xfrm>
            <a:off x="457200" y="3048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2" name="Rounded Rectangle 24"/>
          <p:cNvSpPr/>
          <p:nvPr/>
        </p:nvSpPr>
        <p:spPr>
          <a:xfrm>
            <a:off x="457200" y="3733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Rounded Rectangle 25"/>
          <p:cNvSpPr/>
          <p:nvPr/>
        </p:nvSpPr>
        <p:spPr>
          <a:xfrm>
            <a:off x="457200" y="44197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4" name="Rounded Rectangle 26"/>
          <p:cNvSpPr/>
          <p:nvPr/>
        </p:nvSpPr>
        <p:spPr>
          <a:xfrm>
            <a:off x="457200" y="51055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5" name="Rounded Rectangle 27"/>
          <p:cNvSpPr/>
          <p:nvPr/>
        </p:nvSpPr>
        <p:spPr>
          <a:xfrm>
            <a:off x="457200" y="57913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5417-9DAA-4BF8-9F4D-FB0E69D898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3AF8-B4EF-4D80-992A-DFFC0FFCCF1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828800" y="99036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Quyết địn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Horizontal Scroll 6"/>
          <p:cNvSpPr/>
          <p:nvPr/>
        </p:nvSpPr>
        <p:spPr>
          <a:xfrm>
            <a:off x="304920" y="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CHƯƠ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828800" y="16765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hông báo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828800" y="23623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ờ trình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828800" y="30481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Báo cáo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828800" y="37339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ghi Biên bản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828800" y="44197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Hợp đồng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828800" y="51055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Công văn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828800" y="57913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Đơn thư cá nhân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8" name="Rounded Rectangle 14"/>
          <p:cNvSpPr/>
          <p:nvPr/>
        </p:nvSpPr>
        <p:spPr>
          <a:xfrm>
            <a:off x="457200" y="9907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9" name="Rounded Rectangle 15"/>
          <p:cNvSpPr/>
          <p:nvPr/>
        </p:nvSpPr>
        <p:spPr>
          <a:xfrm>
            <a:off x="457200" y="16765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Rounded Rectangle 16"/>
          <p:cNvSpPr/>
          <p:nvPr/>
        </p:nvSpPr>
        <p:spPr>
          <a:xfrm>
            <a:off x="457200" y="23623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Rounded Rectangle 17"/>
          <p:cNvSpPr/>
          <p:nvPr/>
        </p:nvSpPr>
        <p:spPr>
          <a:xfrm>
            <a:off x="457200" y="30481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Rounded Rectangle 18"/>
          <p:cNvSpPr/>
          <p:nvPr/>
        </p:nvSpPr>
        <p:spPr>
          <a:xfrm>
            <a:off x="457200" y="37339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Rounded Rectangle 19"/>
          <p:cNvSpPr/>
          <p:nvPr/>
        </p:nvSpPr>
        <p:spPr>
          <a:xfrm>
            <a:off x="457200" y="44197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6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4" name="Rounded Rectangle 20"/>
          <p:cNvSpPr/>
          <p:nvPr/>
        </p:nvSpPr>
        <p:spPr>
          <a:xfrm>
            <a:off x="457200" y="51055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7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5" name="Rounded Rectangle 21"/>
          <p:cNvSpPr/>
          <p:nvPr/>
        </p:nvSpPr>
        <p:spPr>
          <a:xfrm>
            <a:off x="457200" y="57913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8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4F68-8A13-4166-A57F-649636F4AC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EAE3-3AF6-4B06-8650-8734B715F27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49AF-86C6-4850-B087-C7083ED5D0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0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2BD5-B28E-4FA3-A119-2823581593A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1" name="Bevel 3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153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1</a:t>
            </a: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</a:t>
            </a:r>
            <a:endParaRPr b="0" lang="en-US" sz="5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ÌNH BÀY QUYẾT ĐỊNH</a:t>
            </a:r>
            <a:endParaRPr b="0" lang="en-US" sz="5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3" name="Minus 5"/>
          <p:cNvSpPr/>
          <p:nvPr/>
        </p:nvSpPr>
        <p:spPr>
          <a:xfrm>
            <a:off x="3276720" y="1905120"/>
            <a:ext cx="2590560" cy="2286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1B39-A830-47B7-ACBB-410E7E13A5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50AD-7297-4724-99B3-4C200DA04DC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ái n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ẩm quyền ban hà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ấu trúc của quyết đị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Mẫu quyết đị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tập trên lớp: Soạn Quyết đị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8" name="Horizontal Scroll 6"/>
          <p:cNvSpPr/>
          <p:nvPr/>
        </p:nvSpPr>
        <p:spPr>
          <a:xfrm>
            <a:off x="304920" y="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F80E-E8DC-43B8-AC0C-A8C56D738C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DDF8-AA77-4B36-9C48-4E6BDFCA4BC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219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chế độ, chính sách, nhiệm vụ quyền hạn tổ chức bộ máy nhà nướ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3" name="Horizontal Scroll 6"/>
          <p:cNvSpPr/>
          <p:nvPr/>
        </p:nvSpPr>
        <p:spPr>
          <a:xfrm>
            <a:off x="228600" y="0"/>
            <a:ext cx="861048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KHÁI NIỆM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4" name="Horizontal Scroll 7"/>
          <p:cNvSpPr/>
          <p:nvPr/>
        </p:nvSpPr>
        <p:spPr>
          <a:xfrm>
            <a:off x="304920" y="9907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 QUYẾT ĐỊNH QUY PHẠM PHÁP LUẬ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3048120"/>
          <a:ext cx="8229600" cy="3352680"/>
        </p:xfrm>
        <a:graphic>
          <a:graphicData uri="http://schemas.openxmlformats.org/drawingml/2006/table">
            <a:tbl>
              <a:tblPr/>
              <a:tblGrid>
                <a:gridCol w="2133720"/>
                <a:gridCol w="1371600"/>
                <a:gridCol w="4724280"/>
              </a:tblGrid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Số/Ký hiệ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Ngà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Trích yếu nội d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16/2013/QĐ-T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04/03/2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66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  Về việc mua, bán vàng miếng trên thị trườ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66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  trong nước của Ngân hàng Nhà nướ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05/2013/QĐ-T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15/01/2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000" spc="-1" strike="noStrike" u="sng">
                          <a:solidFill>
                            <a:srgbClr val="6666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Quy định việc công dân Việt Nam ra nước ngoài học tập</a:t>
                      </a:r>
                      <a:r>
                        <a:rPr b="0" lang="vi-VN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15/2013/QĐ-T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23/02/2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66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  Về tín dụng đối với hộ cận nghèo</a:t>
                      </a: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50/2012/QĐ-UB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14/11/20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Ban hành Quy định chức năng, nhiệm vụ, quyền hạn và cơ cấu tổ chức của Sở Kế hoạch và Đầu tư tỉnh Bình Dươ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6B25-BE37-4DF2-96B3-7669A68F22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19B5-6FB6-43F6-AA04-4F429760759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31E2-6884-4BAF-843A-BDC61F89AA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A53B-DBFF-4745-B190-BF8F1BBA78DA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80" name="Picture 2" descr="http://tapchihuongnghiep.com.vn/Pictures/Gallery/Large/Quyet-dinh-1.gif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http://www.uct.edu.vn/sites/default/files/tinhdchung/DSC_3239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3-10-23T03:20:11Z</dcterms:modified>
  <cp:revision>397</cp:revision>
  <dc:subject/>
  <dc:title>Chương 9.1</dc:title>
</cp:coreProperties>
</file>